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F8CD-217C-4DEE-A9A6-D46C77BED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9584-FF81-4644-8882-FD93DC531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9"/>
          <p:cNvSpPr/>
          <p:nvPr/>
        </p:nvSpPr>
        <p:spPr>
          <a:xfrm>
            <a:off x="0" y="0"/>
            <a:ext cx="4572000" cy="344016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40"/>
          <p:cNvSpPr/>
          <p:nvPr/>
        </p:nvSpPr>
        <p:spPr>
          <a:xfrm flipH="1">
            <a:off x="0" y="3446640"/>
            <a:ext cx="4572000" cy="341136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1"/>
          <p:cNvSpPr/>
          <p:nvPr/>
        </p:nvSpPr>
        <p:spPr>
          <a:xfrm flipH="1" flipV="1">
            <a:off x="4572000" y="3432240"/>
            <a:ext cx="4572000" cy="342576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2"/>
          <p:cNvSpPr/>
          <p:nvPr/>
        </p:nvSpPr>
        <p:spPr>
          <a:xfrm rot="5400000">
            <a:off x="5126040" y="-563400"/>
            <a:ext cx="3454560" cy="458136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-30240" y="3433680"/>
            <a:ext cx="92314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 flipH="1">
            <a:off x="4552560" y="0"/>
            <a:ext cx="1260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96120" y="1173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ing &amp;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108000" y="631836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/Life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3"/>
          <p:cNvSpPr/>
          <p:nvPr/>
        </p:nvSpPr>
        <p:spPr>
          <a:xfrm>
            <a:off x="6816600" y="6318360"/>
            <a:ext cx="22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ose Your Own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30"/>
          <p:cNvSpPr/>
          <p:nvPr/>
        </p:nvSpPr>
        <p:spPr>
          <a:xfrm>
            <a:off x="6836760" y="6529320"/>
            <a:ext cx="21222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Mutual Mentoring Map ©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ffice of Faculty Development, University of Massachusetts Amhers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29"/>
          <p:cNvSpPr/>
          <p:nvPr/>
        </p:nvSpPr>
        <p:spPr>
          <a:xfrm>
            <a:off x="4257720" y="3114720"/>
            <a:ext cx="600120" cy="58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11"/>
          <p:cNvSpPr/>
          <p:nvPr/>
        </p:nvSpPr>
        <p:spPr>
          <a:xfrm>
            <a:off x="6378120" y="117360"/>
            <a:ext cx="270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ure, Promotion, Annual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7:41:20Z</dcterms:created>
  <dc:creator>Jung Yun</dc:creator>
  <dc:description/>
  <dc:language>en-US</dc:language>
  <cp:lastModifiedBy>Mary Deane Sorcinelli</cp:lastModifiedBy>
  <dcterms:modified xsi:type="dcterms:W3CDTF">2010-03-16T14:37:34Z</dcterms:modified>
  <cp:revision>18</cp:revision>
  <dc:subject/>
  <dc:title>Slide 1</dc:title>
</cp:coreProperties>
</file>